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6C5-A60E-4A38-90E3-48452AD9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B1B-B6FA-4600-AF7E-21822C99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094-3099-43B3-8756-48660378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69D-F051-40DE-9C03-22A8D904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B9F-B78A-4427-B225-1304C42C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4C2-DE19-4920-A5F9-F07F74C3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020-4DFC-45DF-A311-D62D1433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BEC-02B2-47E1-BF71-8FEBC801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CD6-F657-45E3-8F5D-578CE11C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651-31E1-495E-A8D0-6250D671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927-30BF-4ACF-82ED-C0A3F55E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664-9FC9-47FB-950B-EC88769F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1966-23C8-48A8-AC5E-970696DCE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DERCRAIG                                CALDERCRAIG  100TH                       CLARKSTON                                CLYDESDALE                                 COATBRIDGE                         COAT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137160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ATBRIDGE  WEST  END                 COATBRIDGE  WEST  END                   DENBEATH                                   GARROWHILL                         GARROWHILL  50TH                        GARTCO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RTCOSH                                          GARTCOSH                                     GARTCOSH                               GARTCOSH  75TH              GARTLOCH  HOSPITAL  100TH           GARTSHER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RTSHERRIE                                      GARTSHERRIE                              GLENGOWAN                                 GLENGOWAN                                 GLENGOWAN                    GLENGOWA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13240" y="-79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5800" y="2060640"/>
            <a:ext cx="117000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44880" y="198900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57600" y="206064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097600" y="2133720"/>
            <a:ext cx="96984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537240" y="1844640"/>
            <a:ext cx="106056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7977240" y="2133720"/>
            <a:ext cx="969840" cy="93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560520" y="3645000"/>
            <a:ext cx="107928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2144880" y="3645000"/>
            <a:ext cx="107928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584520" y="3645000"/>
            <a:ext cx="115272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5240160" y="3789360"/>
            <a:ext cx="82260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6681960" y="3789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2144880" y="537372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372888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6608880" y="5516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5097600" y="558972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7905600" y="537372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8048520" y="3860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631800" y="5589720"/>
            <a:ext cx="950760" cy="97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9"/>
          <a:stretch/>
        </p:blipFill>
        <p:spPr>
          <a:xfrm>
            <a:off x="3513240" y="2602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0"/>
          <a:stretch/>
        </p:blipFill>
        <p:spPr>
          <a:xfrm>
            <a:off x="4881600" y="0"/>
            <a:ext cx="1427040" cy="1339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1"/>
          <a:stretch/>
        </p:blipFill>
        <p:spPr>
          <a:xfrm>
            <a:off x="6465960" y="18900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2"/>
          <a:stretch/>
        </p:blipFill>
        <p:spPr>
          <a:xfrm>
            <a:off x="2216160" y="333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3"/>
          <a:stretch/>
        </p:blipFill>
        <p:spPr>
          <a:xfrm>
            <a:off x="7761240" y="2602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4"/>
          <a:stretch/>
        </p:blipFill>
        <p:spPr>
          <a:xfrm>
            <a:off x="488880" y="333360"/>
            <a:ext cx="10508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09:30:56Z</dcterms:created>
  <dc:creator>JOHN YOUNG</dc:creator>
  <dc:description/>
  <dc:language>en-US</dc:language>
  <cp:lastModifiedBy>JY</cp:lastModifiedBy>
  <cp:lastPrinted>1999-12-15T20:59:08Z</cp:lastPrinted>
  <dcterms:modified xsi:type="dcterms:W3CDTF">2008-05-20T08:12:41Z</dcterms:modified>
  <cp:revision>29</cp:revision>
  <dc:subject/>
  <dc:title>No Slide Title</dc:title>
</cp:coreProperties>
</file>